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EB7-56E1-44EF-ABC2-5266217F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39D-31C2-4DE8-B252-1C6BA500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1B3-2181-465F-AEC4-3B14C7CD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3D1-8C4B-4BC6-BEE7-EA4EA9F2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F7C-CCC7-4E1C-ADE9-ECB7925B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897-15E3-4CA0-BB04-6A1103F4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5D4-CE29-4EBC-BDD3-2CC3E045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53A-4508-4655-8133-709E90BF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33D-6464-4E99-B421-A094549C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929-9E28-4D11-8A2B-F2762153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44D-11A5-49F0-B729-C80138BF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B14-99FF-4712-B0C8-1862BA3E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E493-6267-4ABF-9A1B-CB4963A4E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CAMERE EMILIA-ROMAGNA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ragionerie – gruppo di lavoro “nuovo regolamen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P.R. 254/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rifless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ta di WORK FLOW di program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GRAMMA PLURIENN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art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biettivi di priorità strategica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luriennali di manda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ultati da conseguire nell’arco del mandato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responsabilità polit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orse disponibili nei 5 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GGIORNAMENTO ANNUALE (art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edisposizione Relazione Previsionale Programma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dividuazione degli obiettivi strategici annuali, coerenti con il programma pluriennale e con le priorità in esso conte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dazione dei programmi annuali di intervento di specificazione delle finalità che si intendono perseguire nell’an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dicazione dei risultati da conseguire nell’anno(STEP DEL PLURIENN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orse annuali disponi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ENTIVO ECONOMICO (artt. 6 e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lassificazione per funzione istitu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zione al preventivo (art.7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 informazione sui proventi, oneri e pian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estimen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 informazione sui criteri di ripartizione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unzione istituzion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determinazione delle risorse economich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stinate ai programmi annuali (da R.P.P.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UDGET DIREZIONALE (artt. 8 – 9 e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) Attribuzione risorse e programmi alla dirig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6200000">
            <a:off x="4210560" y="2708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108240"/>
            <a:ext cx="52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zione del piano di 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4175640" y="3824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 rot="10800000">
            <a:off x="1474920" y="4075560"/>
            <a:ext cx="6989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so com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getti/attività/iniziative/contrib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Indicazione alla dirigenza dei risultati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guire   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sponsabilità gestion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rot="16200000">
            <a:off x="4248000" y="533700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77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atori di attività e risultato sull’andamento dei program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atori di efficienza, efficacia, economic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5000"/>
            <a:ext cx="40384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IGLIO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artt. 4-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sponsabile della stesura del programma plurienn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dividua obiettivi di priorità strategica ed i risultati da consegu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sponsabile della scelta annuale degli obiettivi prior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dividua le linee guida per la definizione dei programmi di interv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00720" y="1341000"/>
            <a:ext cx="4643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LLEGIO REVISO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artt.29-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ponsabile del controllo amministrativo-contabile-fi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280" y="3716280"/>
            <a:ext cx="39560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IUN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sponsabile della valutazione strategica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rt. 3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dispone il preventivo economico (art. 6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ssegna alla dirigenza (art.8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grammi di interv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ultati da consegu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356000" y="3500280"/>
            <a:ext cx="47880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O DI VALUTAZIONE STRATEGIC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t. 3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o tecnico di supporto alla Giu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 gli indicatori di attività e risultato sui program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ferisce periodicamente alla Giunta con relazioni periodiche, annuali (anche a Presidente e Collegio revisor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a la qualità dei servizi erogati ed il grado di soddisfazione dell’ut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nisce alla Giunta elementi di giudizio per la valutazione della diri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4149720"/>
            <a:ext cx="718920" cy="358920"/>
          </a:xfrm>
          <a:prstGeom prst="leftRightArrow">
            <a:avLst>
              <a:gd name="adj1" fmla="val 50000"/>
              <a:gd name="adj2" fmla="val 39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RETARIO GENERALE E DIRIG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i della gestione e del realizzo dei programmi assegnati dalla Giu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 valutati dalla Giunta per il tramite di indicazioni fornite dall’Organo di valutazione strate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no il “Piano d’azione” per la realizzazione dei progra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ROLLO DI GEST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rt.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ifica e monitora il piano d’azione dei dirigenti inteso 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rogetti/attività/iniziative/contrib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nitora gli indicatori di efficienza, efficacia, economicità dell’azione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rta l’organo di valutazione strate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0:08:55Z</dcterms:created>
  <dc:creator> </dc:creator>
  <dc:description/>
  <dc:language>en-US</dc:language>
  <cp:lastModifiedBy>pinid</cp:lastModifiedBy>
  <cp:lastPrinted>2006-06-23T08:50:46Z</cp:lastPrinted>
  <dcterms:modified xsi:type="dcterms:W3CDTF">2006-06-23T08:51:14Z</dcterms:modified>
  <cp:revision>4</cp:revision>
  <dc:subject/>
  <dc:title>UNIONCAMERE EMILIA-ROMAGNA Network ragionerie – gruppo di lavoro “nuovo regolamento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1560829</vt:r8>
  </property>
  <property fmtid="{D5CDD505-2E9C-101B-9397-08002B2CF9AE}" pid="3" name="_AuthorEmail">
    <vt:lpwstr>cristina.sandri@fe.camcom.it</vt:lpwstr>
  </property>
  <property fmtid="{D5CDD505-2E9C-101B-9397-08002B2CF9AE}" pid="4" name="_AuthorEmailDisplayName">
    <vt:lpwstr>Cristina Sandri</vt:lpwstr>
  </property>
  <property fmtid="{D5CDD505-2E9C-101B-9397-08002B2CF9AE}" pid="5" name="_EmailSubject">
    <vt:lpwstr/>
  </property>
</Properties>
</file>